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255B-3890-4F62-9EA6-7EB6D2F4B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52A2-4DD3-4DA8-A6B5-CBEB00EBE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1C23-3784-4EBB-9716-8BB1AB199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AD77-B331-4669-B025-A624B938F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8621-9C58-4535-9339-DB68D46ED6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E176-F709-430C-95B5-395BDB0A7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77B8-3895-4222-AD17-9C2557FD4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E0C6-5C6E-40A2-904A-8632318F5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50F0-9194-4F7B-AEF1-75051B560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7016-2F04-4999-A2F1-93F222100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073C-B890-4374-A2B7-64D386C28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1C87-9F69-44D2-94DA-98A13D8A3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F4FE-02DC-4905-B0CB-8916A26131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47F3-A85D-436F-ABB2-D058F06EDE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need a pen and your mar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group will have the following materials prov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the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eneric Mathematical Processes Rubric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 (you will only receive the section related to your le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AT3.2Generalization Strategies and Justification Framework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AT3.3 Recording Shee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tables we will designate for Numbers 1, 2 and 3.  No more than 4 people in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it for the next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3F2E-7DCA-490A-AB50-155A848E5C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6FA1-F4EC-41C0-97EC-DA8DB0A4F2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Your Ta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will have the next 20 minutes (approximately) to look at the criteria for your lens using the resources we have provided to ensure that you have a common understanding as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your group’s common understanding of “Important Things to Consider/Look For” in the top box on the Recording Sheet.  Leave other boxes bl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58C7-A1F8-4D40-9B7F-C5E61D3C4E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4C7B-EA6E-464D-B175-12CAB08FE1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380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2 ~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ach group will receive the same set of 4 student samples which have been numbered for ident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ach person will start with one of the s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ing BLM AT3.3, </a:t>
            </a: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INDIVIDUALLY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record your feedback for that student using the criteria for your lens (see box at top of your page). Record in the appropriate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en you are done, turn the sample over to signal you are ready to pass the sample to the next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en everyone has their sample turned over, pass the samples ONE place to the 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82AA-BED4-42D2-9709-8D92DFE46E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6AB5-2711-4C62-BEF5-66A6C22F38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3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oun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arting with sample 1, do a Round Table in your group, to share your feedb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me to CONSENSUS on 1 or 2 KEY pieces of feedback for that stud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cord with marker on the half piece of chart paper (be sure to put the student sample number on the chart paper along with the feed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peat for all 4 samples (approx 5 min per sam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ost chart paper beside samples on the wall when do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F9B3-3064-4855-ACCA-F9AC633276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513B-4397-41BC-A339-AEBFAA488D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4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e groups of 3 by taking one person from each Expert Group to form new Jigsaw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a Gallery Walk to look at each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Jigsaw group member will share the justification for feedback with the other group members, based on his/her l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E61A-8E35-402B-9BB1-F69C32CC08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3B74-6D5E-497F-82EC-CA6BF32D2B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focussing on a particular lens help you provide feedback?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0D71-8522-4B7E-BB54-E15CE37E47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18C1-0E9B-47A4-B0B2-855309D552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you notice any overlaps in the feedback provided through the different len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1C79-E4EE-4C31-9A20-448FCB5F64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CF1B-8464-4B9A-B398-207C6AA67A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 you look at providing feedback any differently now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7D7C-57EE-4F6F-9FC4-1BD3547656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D3C7-6D2E-43DB-8080-E274A4E69F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questions/concerns do you still hav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your 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82C1-D768-4608-B642-93AFCBBD25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645A-965E-4DDB-923D-60419732EE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49CD-DC0B-4E93-8C1F-91065808C3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A971-1A59-437B-B022-B130C06075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ider the various criteria (lenses) through which we assess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derstand the importance of shared teacher/student understanding of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flect on personal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gnize that criteria are contex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responding by looking at student samples through a variety of l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E5DC-EE24-4BCC-A76D-AA12BBF4EC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877C-4D0C-4AB4-B5F2-37CF9BCEBC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20 minut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The Clapping 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E262-B943-448E-B1F8-CE861A1849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B3B5-2B04-4E3C-8158-D1531E4AB8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Part 1 ~ 3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we looking for when we provide feedback to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/Applica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/Problem Sol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thematica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082D-9640-4870-B1A1-3F2C648B90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CA0A-74B3-4FEB-98D0-C6127A64DE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practice providing feedback on samples of student work through the following lenses (Achievement Chart and Math Process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 and Application (Selecting Tools and Strategies, Conn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 (Representing, Communic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 (Reasoning and Proving, Problem Solving, Refl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F3D6-4AB4-45A1-80AC-3A043C716C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FEB5-BFFE-4DA5-854A-7F967D1736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also consider the frameworks from Ruth Beatty and Cathy Br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Generaliz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7893-F8F1-4FFE-A89C-29F75FBE52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2713-EE05-4C92-B299-E0FE0C4734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roups of 4 – 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off 1,2,3 around th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1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Knowledge and Application (Selecting Tools and Strategies, Conn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6ECF-EB03-4A4D-AF92-683DE75297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B503-AE7B-4DA9-A355-1E559A5ADA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2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Communication (Representing, Communica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EE25-E121-4D3D-B07C-B6862D72EA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24EC-B749-45C4-AC8D-C1EB065C51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3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Thinking (Reasoning and Proving, Problem Solving, Refl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4E6B-CDE1-42EB-BA7A-3EF3C81938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0EFD-0C84-46F3-A269-838D4981FD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06T15:12:47Z</dcterms:modified>
  <cp:revision>32</cp:revision>
  <dc:subject/>
  <dc:title>&lt;Title&gt;</dc:title>
</cp:coreProperties>
</file>